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C7B-9210-4953-B927-138782A0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C90-3A7C-41AF-8B0F-CB9C890F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16A-8194-4A13-9DF8-F9C7F6B2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7CF-156B-48BE-9BBB-19750313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29A0-8AD3-47A3-B035-56C9A2E6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7989-ACDB-4999-9251-792FFE20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FC29-7826-44D4-8DF2-F4021A2B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AC41-6051-4160-A206-1CCC48B6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50B0-D815-405D-A0BF-DD5CE642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B027-B525-41EB-A592-285C8891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72E9-1855-4556-9F20-22A780EB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A344-C03F-44E1-92ED-9358FF69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5B8B-87ED-48C4-8D05-5EF899EB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5A31-03B3-4B14-B61D-D8B832D2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8EFA-C359-47B4-92FB-9C2D9D24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8DD4-8B48-4992-9C38-D377BC37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D583-18F5-443A-A560-FF0834C5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EC6-82E4-4459-A257-E8EDF0B4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91F-BF40-4085-90EB-AF0CB466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19AC-313A-4B94-ABDC-DFF6ACDC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D0EC-DB4E-4E5D-A6B4-B143483B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A67-183E-43FC-80C9-7E60E185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41AB-E4FC-4546-9B73-DC43A688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19D-DB36-4D44-811E-BB13584C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1DA0-9C40-4706-8173-CB69BBCE14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1218-257B-441A-A4C1-D7FD8CBD2E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 u="sng">
                <a:solidFill>
                  <a:srgbClr val="999900"/>
                </a:solidFill>
                <a:uFillTx/>
                <a:latin typeface="Times New Roman"/>
                <a:ea typeface="Times New Roman"/>
              </a:rPr>
              <a:t>Лексика и фразеология.</a:t>
            </a:r>
            <a:endParaRPr b="0" lang="en-US" sz="59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 в 10 классе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9900"/>
                </a:solidFill>
                <a:latin typeface="Verdana"/>
              </a:rPr>
              <a:t>Правильный ответ: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еловек, который противится нововведениям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(Консерватор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равление развития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(Тенденци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а взглядов на природу и общество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(Мировоззрение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ироэпическое произведение, то есть рассказ, изложенный в поэтической форме, исторического, мифического или героического характера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(Баллада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вобождение от зависимости, предрассудков, уравнение в правах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(Эмансипаци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999900"/>
                </a:solidFill>
                <a:latin typeface="Verdana"/>
                <a:ea typeface="Times New Roman"/>
              </a:rPr>
              <a:t>Исправьте лексическую ошибку, подобрав к выделенному слову пароним.            Запишите подобранное слово.</a:t>
            </a:r>
            <a:br>
              <a:rPr sz="2400"/>
            </a:b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исьма Елены так и не доходили д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адресант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и возвращались обрат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2. Сегодня холодно, так что 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одену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тёплую куртк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3. Прозаик написал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удачлив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произведение о современной жиз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4. Между школьниками и учителями уже в первые дни установились добрые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оверчив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отноше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Verdana"/>
              </a:rPr>
              <a:t>Правильный вариант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1.Письма Елены так и не доходили д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адресат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и возвращались обрат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2. Сегодня холодно, так что 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дену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тёплую куртк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3. Прозаик написал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удач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произведение о современной жиз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4. Между школьниками и учителями уже в первые дни установились добрые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оверитель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отноше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Verdana"/>
                <a:ea typeface="Times New Roman"/>
              </a:rPr>
              <a:t>адресант</a:t>
            </a:r>
            <a:br>
              <a:rPr sz="4800"/>
            </a:br>
            <a:r>
              <a:rPr b="1" lang="ru-RU" sz="5400" spc="-1" strike="noStrike">
                <a:solidFill>
                  <a:srgbClr val="999900"/>
                </a:solidFill>
                <a:latin typeface="Verdana"/>
                <a:ea typeface="Times New Roman"/>
              </a:rPr>
              <a:t>— Тот, кто отправляет информацию.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Verdana"/>
                <a:ea typeface="Times New Roman"/>
              </a:rPr>
              <a:t>адресат</a:t>
            </a:r>
            <a:br>
              <a:rPr sz="4800"/>
            </a:br>
            <a:r>
              <a:rPr b="1" lang="ru-RU" sz="5400" spc="-1" strike="noStrike">
                <a:solidFill>
                  <a:srgbClr val="999900"/>
                </a:solidFill>
                <a:latin typeface="Verdana"/>
                <a:ea typeface="Times New Roman"/>
              </a:rPr>
              <a:t>— Тот, кто получает информацию.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9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Calibri"/>
              </a:rPr>
              <a:t>Надеть </a:t>
            </a:r>
            <a:r>
              <a:rPr b="1" lang="ru-RU" sz="4400" spc="-1" strike="noStrike">
                <a:solidFill>
                  <a:srgbClr val="999900"/>
                </a:solidFill>
                <a:latin typeface="Arial"/>
                <a:ea typeface="Calibri"/>
              </a:rPr>
              <a:t>можно что-то на себя, например, я надела платье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Calibri"/>
              </a:rPr>
              <a:t>Одеть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  <a:ea typeface="Calibri"/>
              </a:rPr>
              <a:t> </a:t>
            </a:r>
            <a:r>
              <a:rPr b="1" lang="ru-RU" sz="4400" spc="-1" strike="noStrike">
                <a:solidFill>
                  <a:srgbClr val="999900"/>
                </a:solidFill>
                <a:latin typeface="Arial"/>
                <a:ea typeface="Calibri"/>
              </a:rPr>
              <a:t>можно только кого-то, например, одеть ребёнка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5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Удачливым</a:t>
            </a:r>
            <a:r>
              <a:rPr b="1" lang="ru-RU" sz="4000" spc="-1" strike="noStrike">
                <a:solidFill>
                  <a:srgbClr val="999900"/>
                </a:solidFill>
                <a:latin typeface="Verdana"/>
              </a:rPr>
              <a:t> может быть человек. Это тот, кому сопутствует удача, везение, фортуна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Удачный</a:t>
            </a:r>
            <a:r>
              <a:rPr b="1" lang="ru-RU" sz="4000" spc="-1" strike="noStrike">
                <a:solidFill>
                  <a:srgbClr val="999900"/>
                </a:solidFill>
                <a:latin typeface="Verdana"/>
              </a:rPr>
              <a:t> - это хороший, правильный, благоприятный.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оверительный</a:t>
            </a:r>
            <a:r>
              <a:rPr b="1" lang="ru-RU" sz="2800" spc="-1" strike="noStrike">
                <a:solidFill>
                  <a:srgbClr val="999900"/>
                </a:solidFill>
                <a:latin typeface="Verdana"/>
              </a:rPr>
              <a:t> — выражающий доверие.</a:t>
            </a:r>
            <a:br>
              <a:rPr sz="2800"/>
            </a:br>
            <a:r>
              <a:rPr b="1" lang="ru-RU" sz="2800" spc="-1" strike="noStrike">
                <a:solidFill>
                  <a:srgbClr val="999900"/>
                </a:solidFill>
                <a:latin typeface="Verdana"/>
              </a:rPr>
              <a:t>Примеры употребления: доверительная атмосфера, беседа, интонация; доверительные отношения;  доверительный разговор, тон.</a:t>
            </a:r>
            <a:br>
              <a:rPr sz="28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оверчивый</a:t>
            </a:r>
            <a:r>
              <a:rPr b="1" lang="ru-RU" sz="2800" spc="-1" strike="noStrike">
                <a:solidFill>
                  <a:srgbClr val="999900"/>
                </a:solidFill>
                <a:latin typeface="Verdana"/>
              </a:rPr>
              <a:t> — доверяющий, питающий доверие.</a:t>
            </a:r>
            <a:br>
              <a:rPr sz="2800"/>
            </a:br>
            <a:r>
              <a:rPr b="1" lang="ru-RU" sz="2800" spc="-1" strike="noStrike">
                <a:solidFill>
                  <a:srgbClr val="999900"/>
                </a:solidFill>
                <a:latin typeface="Verdana"/>
              </a:rPr>
              <a:t>Примеры употребления: доверчивый ребёнок, человек, учитель; доверчивая девочка, доверчивое существо, доверчивые люди.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5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00"/>
                </a:solidFill>
                <a:latin typeface="Verdana"/>
                <a:ea typeface="Times New Roman"/>
              </a:rPr>
              <a:t>1. Укажите, какое из слов является синонимом данному.</a:t>
            </a:r>
            <a:br>
              <a:rPr sz="3200"/>
            </a:br>
            <a:br>
              <a:rPr sz="2800"/>
            </a:br>
            <a:r>
              <a:rPr b="1" lang="ru-RU" sz="3200" spc="-1" strike="noStrike" u="sng">
                <a:solidFill>
                  <a:srgbClr val="7030a0"/>
                </a:solidFill>
                <a:uFillTx/>
                <a:latin typeface="Verdana"/>
                <a:ea typeface="Times New Roman"/>
              </a:rPr>
              <a:t>Благоразумный -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а) добродетельный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б) высоконравственный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в) благородный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) здравомыслящий.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5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1. Укажите, какое из слов является синонимом данному.</a:t>
            </a:r>
            <a:br>
              <a:rPr sz="3200"/>
            </a:b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Verdana"/>
                <a:ea typeface="Times New Roman"/>
              </a:rPr>
              <a:t>Гуманный -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а) светлый        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б) человечный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в) необыкновенный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) замечательный.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658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Какими словами можно продолжить следующий синонимический ряд: </a:t>
            </a:r>
            <a:r>
              <a:rPr b="1" lang="ru-RU" sz="3200" spc="-1" strike="noStrike" u="sng">
                <a:solidFill>
                  <a:srgbClr val="666600"/>
                </a:solidFill>
                <a:uFillTx/>
                <a:latin typeface="Verdana"/>
                <a:ea typeface="Times New Roman"/>
              </a:rPr>
              <a:t>безжалостный, бессердечный…</a:t>
            </a: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А) безжизненный, мёртвый                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Б) бесцеремонный, прямолинейный</a:t>
            </a: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) безалаберный, безответственный      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) беспощадный, жестокий.</a:t>
            </a:r>
            <a:br>
              <a:rPr sz="24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Цель: 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ировать изученное по лексике и фразеолог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анализу и редактированию предложений (выявлению и исправлению речевых ошибок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отать навыки решения заданий в тестах ЕГЭ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культуру устной и письменной реч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 умение использовать в своей речи фразеологические оборот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осознанное отношение к изучаемо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650160" y="1981080"/>
            <a:ext cx="8075160" cy="24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1" lang="ru-RU" sz="2800" spc="-1" strike="noStrike">
                <a:solidFill>
                  <a:srgbClr val="666600"/>
                </a:solidFill>
                <a:latin typeface="Verdana"/>
                <a:ea typeface="Calibri"/>
              </a:rPr>
              <a:t>Из предложения 2 выпишите синоним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(2)Как-то раз в лесу, среди глубок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тишины, ясно и отчётливо почудил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мне крик: «Волк бежит!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1452600" y="5257800"/>
            <a:ext cx="53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Verdana"/>
              </a:rPr>
              <a:t>Ответ: ЯСНООТЧЁТЛИ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228600" y="1600200"/>
            <a:ext cx="891540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7300"/>
                </a:solidFill>
                <a:latin typeface="Verdana"/>
                <a:ea typeface="Calibri"/>
              </a:rPr>
              <a:t>Из предложения 20 выпишите синонимы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92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92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Calibri"/>
              </a:rPr>
              <a:t>(20)Расстроился из-за чего-то, огорчился — выйди на улицу, когда одуванчики цветут, пройди два квартала солнечной дорожкой, и будешь ещё вспоминать, что это тебя так расстроило, какая неприятность: одуванчики ярким цветом своим волшебно сотрут всё в голо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1290240" y="6019920"/>
            <a:ext cx="61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Verdana"/>
              </a:rPr>
              <a:t>Ответ: РАССТРОИЛЯОГОРЧИЛ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304920" y="1623960"/>
            <a:ext cx="88390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00"/>
                </a:solidFill>
                <a:latin typeface="Verdana"/>
              </a:rPr>
              <a:t>Из предложений 16 и 17 выпишите синонимическую пар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(16)В этом заключается основа и главная трудность справедливости: людей — бесконечное множество; все они различны; как сделать, чтобы каждый получил согласно справедливости? (17)Если люди неодинаковы, значит, и обходиться с ними надо каждый раз согласно их живому своеобраз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988200" y="6095880"/>
            <a:ext cx="650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Verdana"/>
              </a:rPr>
              <a:t>Ответ: РАЗЛИЧНЫНЕОДИНАКО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Verdana"/>
              </a:rPr>
              <a:t>Из предложений 6-7 выпишите контекстные синонимы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325440" y="151452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529"/>
                </a:solidFill>
                <a:latin typeface="Verdana"/>
              </a:rPr>
              <a:t>(6) Только кочки да буераки указывали направление тропы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529"/>
                </a:solidFill>
                <a:latin typeface="Verdana"/>
              </a:rPr>
              <a:t>(7) Да и то эта тоненькая ниточка не уводила далек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179720" y="4800600"/>
            <a:ext cx="656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Verdana"/>
              </a:rPr>
              <a:t>Ответ: тропыниточ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Verdana"/>
              </a:rPr>
              <a:t>Из предложений 14-15 выпишите контекстные синонимы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609480" y="2057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228600" y="16002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529"/>
                </a:solidFill>
                <a:latin typeface="Verdana"/>
              </a:rPr>
              <a:t>(14) Дневные цветы пробуждаются, когда чуть начинается рассвет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529"/>
                </a:solidFill>
                <a:latin typeface="Verdana"/>
              </a:rPr>
              <a:t>(15) Раскрывает голубые звездочки своих цветов цикорий, расправляет свои широкие лепестки шиповник, вспыхивают яркие огоньки мак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793800" y="5105520"/>
            <a:ext cx="835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Verdana"/>
              </a:rPr>
              <a:t>Ответ:пробуждаютсявспыхиваю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Verdana"/>
              </a:rPr>
              <a:t>       </a:t>
            </a:r>
            <a:r>
              <a:rPr b="1" lang="ru-RU" sz="3200" spc="-1" strike="noStrike">
                <a:solidFill>
                  <a:srgbClr val="00b0f0"/>
                </a:solidFill>
                <a:latin typeface="Verdana"/>
              </a:rPr>
              <a:t>раскрываетрасправляет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304920" y="144792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Из предложений 44–47 выпишите антонимы (антонимическую пару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(44)Но хат, которые были бы с краю, нет. (45)Мы все в ответе за то, что делается вокруг нас. (46)В ответе за всё плохое и за всё хорошее. (47)И не надо думать, будто настоящее испытание приходит к человеку только в какие-то особые, роковые минуты: на войне, во время какой-нибудь катастроф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1151640" y="5791320"/>
            <a:ext cx="56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Verdana"/>
              </a:rPr>
              <a:t>Ответ: плохоехороше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9464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666600"/>
                </a:solidFill>
                <a:latin typeface="Verdana"/>
              </a:rPr>
              <a:t>Из предложений 39–45 выпишите антонимы (антонимическую пару). 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304920" y="175248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(39)Мех заячий… (40)Ничего, крепка, рублей пять стоит. (41)Дайте три рубля, и проценты, разумеется, вперёд… (42)«Где же, в самом деле, люди, где их сердца? (43)Бедняки гибнут, а богачам и дела нет…» (44)Иудин прижал лоб к холодному стеклу и задумался. (45)На глазах его выступили слёзы – крупные, блестящие, крокодиловы слё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336680" y="5638680"/>
            <a:ext cx="59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Verdana"/>
              </a:rPr>
              <a:t>Ответ: беднякибогача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29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Verdana"/>
              </a:rPr>
              <a:t>Из предложений 11-12 выпишите контекстные антонимы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98440" y="1596960"/>
            <a:ext cx="876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11)Какое поле для наблюдения лингвистов, литераторов, актёров! (12)Но как необычно, одухотворённо звучат в нашей сверхделовой речи старинные слова, которые ушли временно, но живут на страницах классиков и ждут светлых дн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975680" y="5638680"/>
            <a:ext cx="521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Verdana"/>
              </a:rPr>
              <a:t>Ответ: ушлиживу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Verdana"/>
              </a:rPr>
              <a:t>Из предложений 10-13   выпишите контекстные антонимы.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304920" y="1676520"/>
            <a:ext cx="88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10) Всё возможно! – гаркнул плечистый, всегда занятый, обычно молчаливый мой сосед, не отрываясь от работы. – (11) Время – загадка. (12) Время может стоять и может очень быстро лететь – я сейчас поясню. (13) В нашем городе несколько лет назад произошёл такой случа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090080" y="6019920"/>
            <a:ext cx="660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Verdana"/>
                <a:ea typeface="Arial"/>
              </a:rPr>
              <a:t>Ответ: стоятьлетет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Объект 1"/>
          <p:cNvGraphicFramePr/>
          <p:nvPr/>
        </p:nvGraphicFramePr>
        <p:xfrm>
          <a:off x="533520" y="236520"/>
          <a:ext cx="8458200" cy="668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520"/>
                    <a:ext cx="8458200" cy="66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Verdana"/>
                <a:ea typeface="Times New Roman"/>
              </a:rPr>
              <a:t>Орфоэпическая разминка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Сливовый, красивее, закупорить, позвонит, столяр, дефис, начал, отрочество, договоренность, облегчить, средства, свекла, клала, оптовый, прозорлива, банты, шарфы, каталог, жалюзи, аэропорты, плодоносить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9900"/>
                </a:solidFill>
                <a:latin typeface="Verdana"/>
              </a:rPr>
              <a:t>Ответы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89154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Verdana"/>
              </a:rPr>
              <a:t>Восстановите фразеологизмы, подобрав нужное слово. Установите соответствие: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17440" y="1447920"/>
            <a:ext cx="969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9900"/>
                </a:solidFill>
                <a:latin typeface="Verdana"/>
              </a:rPr>
              <a:t>ОТВЕТЫ: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1538280" y="3646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838080" y="1751040"/>
            <a:ext cx="869328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разеологические загадки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 Его проглатывают; он подвешен у другого; за него тянут, заставляя высказатьс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 Ее толкуют в ступе или носят в решете те люди, которые занимаются бесполезным делом; ее набирают в рот, когда молча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 Не цветы, а вянут; не ладони, а ими хлопают; не белье, а их развешивают доверчивые люд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4. Он в голове несерьезного человека; его советуют поискать в поле; на него бросают слова и деньг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9900"/>
                </a:solidFill>
                <a:latin typeface="Verdana"/>
              </a:rPr>
              <a:t>Рефлексия: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Я вспомнил…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Я понял, что могу..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Мне понравилось..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Для меня стало новым..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У меня получилось..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Мне захотелось..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Мне было интересно…</a:t>
            </a:r>
            <a:br>
              <a:rPr sz="4000"/>
            </a:b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9900"/>
                </a:solidFill>
                <a:latin typeface="Garamond"/>
              </a:rPr>
              <a:t>Итог урока:</a:t>
            </a:r>
            <a:endParaRPr b="0" lang="en-US" sz="6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сский язык неизмеримо богат и разнообраз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современном русском языке содержится огромное количество лексических средств, которые делают нашу речь яркой, живой, выразитель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этом уроке мы закрепили знания по лексике и фразеологии, рассмотрели типы заданий ЕГЭ по данным раздела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28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9900"/>
                </a:solidFill>
                <a:latin typeface="Verdana"/>
              </a:rPr>
              <a:t>Домашнее задание:</a:t>
            </a:r>
            <a:br>
              <a:rPr sz="4800"/>
            </a:br>
            <a:br>
              <a:rPr sz="4800"/>
            </a:br>
            <a:r>
              <a:rPr b="1" lang="ru-RU" sz="5400" spc="-1" strike="noStrike">
                <a:solidFill>
                  <a:srgbClr val="0070c0"/>
                </a:solidFill>
                <a:latin typeface="Garamond"/>
              </a:rPr>
              <a:t>Упр. 18, 23, 27 письменно, по заданию.</a:t>
            </a:r>
            <a:br>
              <a:rPr sz="5400"/>
            </a:br>
            <a:br>
              <a:rPr sz="4800"/>
            </a:br>
            <a:br>
              <a:rPr sz="4800"/>
            </a:b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999900"/>
                </a:solidFill>
                <a:latin typeface="Verdana"/>
              </a:rPr>
              <a:t>О каком языковом явлении идёт речь?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ой город парит над головами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 какого крана не наберёшь воды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ой вид литературного произведения обозначается мужским именем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ое государство летом можно носить на голов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какой клетке не держат птиц и зверей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им поясом нельзя подпоясаться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й город парит над головами? - </a:t>
            </a: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Орёл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 какого крана не наберёшь воды? - </a:t>
            </a: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С подъёмног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й вид литературного произведения обозначается мужским именем? - </a:t>
            </a: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Рома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государство летом можно носить на голове? </a:t>
            </a: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- Панам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какой клетке не держат птиц и зверей? - </a:t>
            </a: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В грудн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м поясом нельзя подпоясаться? - </a:t>
            </a: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Земны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Правильный вариант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           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Ответьте на вопрос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Какими частями речи могут быть слова </a:t>
            </a:r>
            <a:r>
              <a:rPr b="1" lang="ru-RU" sz="4000" spc="-1" strike="noStrike">
                <a:solidFill>
                  <a:srgbClr val="99cc00"/>
                </a:solidFill>
                <a:latin typeface="Verdana"/>
              </a:rPr>
              <a:t>ТРИ, СЕМЬЮ, МОЙ, ПРОСТОЙ, СТЕКЛ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 зависимости от контекста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с ними словосочетания или предложения, чтобы часть речи не вызывала сомнени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Правильное ударение: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сл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вовый, кра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вее, зак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У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рить, позвон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т, стол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Я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р, деф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с, ,н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чал,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трочество, договор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Ё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нность, облегч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ть, ср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дства, св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Ё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кла, кл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ла, опт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вый, прозорл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ва, б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нты, ш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рфы, катал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г, жалюз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, аэроп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рты, плодоно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ть.</a:t>
            </a:r>
            <a:br>
              <a:rPr sz="36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00"/>
                </a:solidFill>
                <a:latin typeface="Verdana"/>
              </a:rPr>
              <a:t>Из предложений 24-25 выпишите слово, употреблённое в переносном значении, которое в одном из прямых значений обозначает </a:t>
            </a:r>
            <a:r>
              <a:rPr b="1" lang="ru-RU" sz="2400" spc="-1" strike="noStrike" u="sng">
                <a:solidFill>
                  <a:srgbClr val="61612a"/>
                </a:solidFill>
                <a:uFillTx/>
                <a:latin typeface="Verdana"/>
              </a:rPr>
              <a:t>«склад оружия»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24)То есть я хочу сказать, что можно встретить учёного человека с большими конкретными знаниями и вскоре убедиться, что он очень, в сущности, ограниченный человек. (25)И можно встретить человека, не вооружённого целым арсеналом точных знаний, но с широтой и ясностью представлений о внешнем мире.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380880" y="213372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24)То есть я хочу сказать, что можно встретить учёного человека с большими конкретными знаниями и вскоре убедиться, что он очень, в сущности, ограниченный человек. (25)И можно встретить человека, не вооружённого целым </a:t>
            </a:r>
            <a:r>
              <a:rPr b="1" lang="ru-RU" sz="2800" spc="-1" strike="noStrike" u="sng">
                <a:solidFill>
                  <a:srgbClr val="999900"/>
                </a:solidFill>
                <a:uFillTx/>
                <a:latin typeface="Verdana"/>
              </a:rPr>
              <a:t>арсенало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точных знаний, но с широтой и ясностью представлений о внешнем мире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00"/>
                </a:solidFill>
                <a:latin typeface="Verdana"/>
              </a:rPr>
              <a:t>Из предложений 19–24 выпишите слово, имеющее значение </a:t>
            </a:r>
            <a:r>
              <a:rPr b="1" lang="ru-RU" sz="2400" spc="-1" strike="noStrike" u="sng">
                <a:solidFill>
                  <a:srgbClr val="61612a"/>
                </a:solidFill>
                <a:uFillTx/>
                <a:latin typeface="Verdana"/>
              </a:rPr>
              <a:t>«не вполне открыто выражать недовольство, протест».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19)Трудный путь это был! (20)Темно было, и на каждом шагу болото разевало свою жадную пасть, глотая людей, и деревья заступали дорогу могучей стеной. (21)Долго шли они... (22)Всё гуще становился лес, всё меньше было сил! (23)И вот стали роптать на Данко, говоря, что напрасно он, молодой и неопытный, повёл их куда-то. (24)А он шел впереди их и был бодр и яс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42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19)Трудный путь это был! (20)Темно было, и на каждом шагу болото разевало свою жадную пасть, глотая людей, и деревья заступали дорогу могучей стеной. (21)Долго шли они... (22)Всё гуще становился лес, всё меньше было сил! (23)И вот стали </a:t>
            </a:r>
            <a:r>
              <a:rPr b="1" lang="ru-RU" sz="2800" spc="-1" strike="noStrike" u="sng">
                <a:solidFill>
                  <a:srgbClr val="999900"/>
                </a:solidFill>
                <a:uFillTx/>
                <a:latin typeface="Verdana"/>
              </a:rPr>
              <a:t>роптать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а Данко, говоря, что напрасно он, молодой и неопытный, повёл их куда-то. (24)А он шел впереди их и был бодр и ясен.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Verdana"/>
              </a:rPr>
              <a:t>По лексическому значению узнайте  слово и запишите его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еловек, который противится нововведениям (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равление развития (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а взглядов на природу и общество (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ироэпическое произведение, то есть рассказ, изложенный в поэтической форме, исторического, мифического или героического характера (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Б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вобождение от зависимости, предрассудков, уравнение в правах (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Э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4:28:21Z</dcterms:created>
  <dc:creator>Татьяна</dc:creator>
  <dc:description/>
  <dc:language>en-US</dc:language>
  <cp:lastModifiedBy>UserNC</cp:lastModifiedBy>
  <dcterms:modified xsi:type="dcterms:W3CDTF">2023-11-14T19:02:53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